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309-3D29-4684-9E6A-2A5D398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C0C-F76E-4974-86CC-5404E7E7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8BF-B2BF-4B7B-82CF-3340BAC8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16E-E9DB-4FA8-A7F5-DE2429F3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4D87-1272-4874-A285-4DEE76F8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753A-D1BF-43E1-8D3B-673CBD0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6BD-DDED-4098-81BD-964D0D2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9B0-692F-4D80-9D0B-110F0D9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347B-19BE-4DC2-B05C-36B3B860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4967-A841-4A36-82BD-3AEE11E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058-774B-4C10-9C54-57B9F78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4D6-A6CC-4D8D-9974-D91808F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61EB-0D63-43A5-BF6F-19EFCD0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8E99-A835-458E-8BB0-40647BE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5D2-0762-464E-94D2-9CFD19E2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3B4-CD86-433C-BCCD-3548F61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A1CB-F326-4A20-9B14-9EECFFB7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0A6-D08A-44D8-ABCC-44971AA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9DD-BF55-45AE-9914-6E2BCC66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418-6865-4D09-B92A-47EF8B9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41E-4D7A-43A4-873A-9A8AC4E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885-0A11-4746-AC0A-94950E2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201-A3E7-4039-ADB9-010DFDA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C51-8386-4517-8273-7170C6E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FE02-78B5-499B-896F-C4EC4B8C5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321-F4C9-4BE3-9F2C-A8D9776B2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ratic and Rational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2135160"/>
          <a:ext cx="647712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516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23880" y="266760"/>
          <a:ext cx="66294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760"/>
                    <a:ext cx="66294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304920" y="3049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371600" y="2286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7432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50292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14600" y="2362320"/>
          <a:ext cx="45720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45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2286000"/>
          <a:ext cx="352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286000"/>
                    <a:ext cx="352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90720" y="2819520"/>
          <a:ext cx="6933960" cy="203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819520"/>
                    <a:ext cx="69339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14400" y="4838760"/>
          <a:ext cx="6019920" cy="1896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838760"/>
                    <a:ext cx="601992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AutoShape 11"/>
          <p:cNvSpPr/>
          <p:nvPr/>
        </p:nvSpPr>
        <p:spPr>
          <a:xfrm>
            <a:off x="6781680" y="6477120"/>
            <a:ext cx="533520" cy="75960"/>
          </a:xfrm>
          <a:prstGeom prst="rightArrow">
            <a:avLst>
              <a:gd name="adj1" fmla="val 50000"/>
              <a:gd name="adj2" fmla="val 1755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1" dur="1" fill="hold"/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"/>
          <p:cNvSpPr/>
          <p:nvPr/>
        </p:nvSpPr>
        <p:spPr>
          <a:xfrm>
            <a:off x="1676520" y="914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124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556272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1000080"/>
          <a:ext cx="45720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000080"/>
                    <a:ext cx="45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86400" y="990720"/>
          <a:ext cx="293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99072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066680" y="1828800"/>
          <a:ext cx="6553440" cy="419112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189080"/>
                <a:gridCol w="1309680"/>
                <a:gridCol w="1311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v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431040" y="1905120"/>
          <a:ext cx="8935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1040" y="1905120"/>
                    <a:ext cx="893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143000" y="3262320"/>
          <a:ext cx="137160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262320"/>
                    <a:ext cx="13716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219320" y="4362480"/>
          <a:ext cx="114300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362480"/>
                    <a:ext cx="1143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295280" y="5442120"/>
          <a:ext cx="1067040" cy="5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5442120"/>
                    <a:ext cx="10670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971800" y="3295800"/>
          <a:ext cx="533520" cy="46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3295800"/>
                    <a:ext cx="533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971800" y="4191120"/>
          <a:ext cx="488880" cy="68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4191120"/>
                    <a:ext cx="488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005280" y="5334120"/>
          <a:ext cx="439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05280" y="5334120"/>
                    <a:ext cx="439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91120" y="3382920"/>
          <a:ext cx="457200" cy="366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3382920"/>
                    <a:ext cx="457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34120" y="3352680"/>
          <a:ext cx="457200" cy="366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4120" y="3352680"/>
                    <a:ext cx="457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477120" y="3276720"/>
          <a:ext cx="99036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7120" y="3276720"/>
                    <a:ext cx="990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038480" y="4343400"/>
          <a:ext cx="533520" cy="533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038480" y="43434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410080" y="4419720"/>
          <a:ext cx="457200" cy="36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10080" y="4419720"/>
                    <a:ext cx="4572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400800" y="4457880"/>
          <a:ext cx="838080" cy="419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00800" y="4457880"/>
                    <a:ext cx="838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14800" y="5486400"/>
          <a:ext cx="53352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114800" y="54864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334120" y="5486400"/>
          <a:ext cx="533160" cy="533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34120" y="5486400"/>
                    <a:ext cx="533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6477120" y="5486400"/>
          <a:ext cx="990360" cy="495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477120" y="5486400"/>
                    <a:ext cx="990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AutoShape 64"/>
          <p:cNvSpPr/>
          <p:nvPr/>
        </p:nvSpPr>
        <p:spPr>
          <a:xfrm>
            <a:off x="380880" y="380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65"/>
          <p:cNvSpPr/>
          <p:nvPr/>
        </p:nvSpPr>
        <p:spPr>
          <a:xfrm>
            <a:off x="7848720" y="64008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219320" y="122400"/>
          <a:ext cx="64008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2400"/>
                    <a:ext cx="64008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676520" y="1828800"/>
          <a:ext cx="449568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828800"/>
                    <a:ext cx="44956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600200" y="3200400"/>
          <a:ext cx="411480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200400"/>
                    <a:ext cx="41148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676520" y="4648320"/>
          <a:ext cx="4952880" cy="95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648320"/>
                    <a:ext cx="49528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Line 6"/>
          <p:cNvSpPr/>
          <p:nvPr/>
        </p:nvSpPr>
        <p:spPr>
          <a:xfrm>
            <a:off x="1295280" y="60958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8120" y="5867280"/>
          <a:ext cx="2286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86728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10080" y="5943600"/>
          <a:ext cx="228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594360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1295280" y="609588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5486400" y="609588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743200" y="6134040"/>
          <a:ext cx="50796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6134040"/>
                    <a:ext cx="5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410080" y="6172200"/>
          <a:ext cx="303480" cy="39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6172200"/>
                    <a:ext cx="303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19320" y="6019920"/>
          <a:ext cx="22860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6019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7238880" y="6019920"/>
          <a:ext cx="228600" cy="22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6019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e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2057400"/>
          <a:ext cx="2529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2529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4"/>
          <p:cNvSpPr/>
          <p:nvPr/>
        </p:nvSpPr>
        <p:spPr>
          <a:xfrm>
            <a:off x="3733920" y="2286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419720" y="2130480"/>
          <a:ext cx="2057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130480"/>
                    <a:ext cx="2057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343400" y="3143160"/>
          <a:ext cx="13716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143160"/>
                    <a:ext cx="13716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4343400"/>
          <a:ext cx="32004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343400"/>
                    <a:ext cx="3200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48320" y="5943600"/>
          <a:ext cx="12952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5943600"/>
                    <a:ext cx="12952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8" dur="1" fill="hold"/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Quadratic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1: write the inequality in standard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2: solve the related quadratic eq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3: locate the boundary points on a numb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4: construct a sign cha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5: the solution set is the interval that produced a true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1: Solve a Quadratic Ine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1905120"/>
          <a:ext cx="403848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40384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219320" y="3276720"/>
          <a:ext cx="44956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276720"/>
                    <a:ext cx="44956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143000" y="4267080"/>
          <a:ext cx="342900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267080"/>
                    <a:ext cx="34290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19320" y="2743200"/>
          <a:ext cx="167616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743200"/>
                    <a:ext cx="1676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143000" y="5181480"/>
          <a:ext cx="746748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81480"/>
                    <a:ext cx="74674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AutoShape 9"/>
          <p:cNvSpPr/>
          <p:nvPr/>
        </p:nvSpPr>
        <p:spPr>
          <a:xfrm>
            <a:off x="6172200" y="61722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/>
          <p:cNvSpPr/>
          <p:nvPr/>
        </p:nvSpPr>
        <p:spPr>
          <a:xfrm>
            <a:off x="1219320" y="609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752480"/>
          <a:ext cx="63244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63244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Line 5"/>
          <p:cNvSpPr/>
          <p:nvPr/>
        </p:nvSpPr>
        <p:spPr>
          <a:xfrm>
            <a:off x="914400" y="4572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7432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90920" y="4648320"/>
          <a:ext cx="3808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648320"/>
                    <a:ext cx="380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29200" y="4648320"/>
          <a:ext cx="246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648320"/>
                    <a:ext cx="246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5025960"/>
          <a:ext cx="6019920" cy="17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025960"/>
                    <a:ext cx="60199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12"/>
          <p:cNvSpPr/>
          <p:nvPr/>
        </p:nvSpPr>
        <p:spPr>
          <a:xfrm>
            <a:off x="6400800" y="6400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a test point within each interval and check the sign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2600" y="2017800"/>
          <a:ext cx="7885080" cy="4116240"/>
        </p:xfrm>
        <a:graphic>
          <a:graphicData uri="http://schemas.openxmlformats.org/drawingml/2006/table">
            <a:tbl>
              <a:tblPr/>
              <a:tblGrid>
                <a:gridCol w="1943280"/>
                <a:gridCol w="1446120"/>
                <a:gridCol w="1066680"/>
                <a:gridCol w="914400"/>
                <a:gridCol w="2514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+1)(x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95280" y="3276720"/>
          <a:ext cx="15242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1524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29000" y="3243240"/>
          <a:ext cx="609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243240"/>
                    <a:ext cx="609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918480" y="3193920"/>
          <a:ext cx="94752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8480" y="3193920"/>
                    <a:ext cx="947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447920" y="4273560"/>
          <a:ext cx="114300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273560"/>
                    <a:ext cx="11430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646440" y="4343400"/>
          <a:ext cx="4906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6440" y="4343400"/>
                    <a:ext cx="490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876920" y="441972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4197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91320" y="4419720"/>
          <a:ext cx="53316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4419720"/>
                    <a:ext cx="5331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05720" y="4384800"/>
          <a:ext cx="121896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384800"/>
                    <a:ext cx="1218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943600" y="3352680"/>
          <a:ext cx="533520" cy="42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3600" y="3352680"/>
                    <a:ext cx="53352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00600" y="3276720"/>
          <a:ext cx="533520" cy="42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00600" y="32767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447920" y="5313240"/>
          <a:ext cx="990360" cy="528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5313240"/>
                    <a:ext cx="990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710160" y="5410080"/>
          <a:ext cx="4111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10160" y="5410080"/>
                    <a:ext cx="411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952880" y="5410080"/>
          <a:ext cx="45720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52880" y="5410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867280" y="5410080"/>
          <a:ext cx="45720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5410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010280" y="5334120"/>
          <a:ext cx="947880" cy="474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10280" y="5334120"/>
                    <a:ext cx="9478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AutoShape 91"/>
          <p:cNvSpPr/>
          <p:nvPr/>
        </p:nvSpPr>
        <p:spPr>
          <a:xfrm>
            <a:off x="304920" y="3049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92"/>
          <p:cNvSpPr/>
          <p:nvPr/>
        </p:nvSpPr>
        <p:spPr>
          <a:xfrm>
            <a:off x="6705720" y="64008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80880" y="380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685800"/>
          <a:ext cx="73915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73915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3000" y="1852560"/>
          <a:ext cx="594360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852560"/>
                    <a:ext cx="59436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43000" y="4348080"/>
          <a:ext cx="441972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348080"/>
                    <a:ext cx="44197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e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584440"/>
          <a:ext cx="411480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84440"/>
                    <a:ext cx="411480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19920" y="2438280"/>
          <a:ext cx="17524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438280"/>
                    <a:ext cx="1752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5"/>
          <p:cNvSpPr/>
          <p:nvPr/>
        </p:nvSpPr>
        <p:spPr>
          <a:xfrm>
            <a:off x="4800600" y="2743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324480" y="3505320"/>
          <a:ext cx="91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05320"/>
                    <a:ext cx="91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181480" y="4419720"/>
          <a:ext cx="1828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41972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5880" y="5486400"/>
          <a:ext cx="144792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486400"/>
                    <a:ext cx="14479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8"/>
          <p:cNvSpPr/>
          <p:nvPr/>
        </p:nvSpPr>
        <p:spPr>
          <a:xfrm>
            <a:off x="70866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xcept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8" dur="1" fill="hold"/>
                                  <p:tgtEl>
                                    <p:spTgt spid="1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Rational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19320" y="1752480"/>
          <a:ext cx="29336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29336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47920" y="2849400"/>
          <a:ext cx="6172200" cy="388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49400"/>
                    <a:ext cx="617220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2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343400" y="762120"/>
          <a:ext cx="29336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762120"/>
                    <a:ext cx="29336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762120" y="1965240"/>
          <a:ext cx="64008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65240"/>
                    <a:ext cx="6400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3740040"/>
          <a:ext cx="9144000" cy="6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40040"/>
                    <a:ext cx="9144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914400" y="4314960"/>
          <a:ext cx="4648320" cy="68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314960"/>
                    <a:ext cx="46483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914400" y="5013360"/>
          <a:ext cx="1066680" cy="49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013360"/>
                    <a:ext cx="10666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914400" y="5410080"/>
          <a:ext cx="419112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5410080"/>
                    <a:ext cx="41911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62120" y="6307200"/>
          <a:ext cx="563868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6307200"/>
                    <a:ext cx="56386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AutoShape 10"/>
          <p:cNvSpPr/>
          <p:nvPr/>
        </p:nvSpPr>
        <p:spPr>
          <a:xfrm>
            <a:off x="7238880" y="6400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15:51Z</dcterms:created>
  <dc:creator> Kamal Hennayake</dc:creator>
  <dc:description/>
  <dc:language>en-US</dc:language>
  <cp:lastModifiedBy>SHS</cp:lastModifiedBy>
  <dcterms:modified xsi:type="dcterms:W3CDTF">2009-09-29T18:51:44Z</dcterms:modified>
  <cp:revision>14</cp:revision>
  <dc:subject/>
  <dc:title>1.6 Quadratic and Rational Inequalities</dc:title>
</cp:coreProperties>
</file>